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907588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87120" y="698400"/>
            <a:ext cx="503532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C0D8B4-8EDB-4B47-B178-00E2448FFA2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3333cc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AE9FD4-1598-4144-93F1-69BA966810E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88920" y="698400"/>
            <a:ext cx="5032440" cy="34848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5E21E2-CA0A-4C27-8F98-BB5FDFC34A6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88920" y="698400"/>
            <a:ext cx="5032440" cy="34848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E6F7E8-9EB0-4647-B809-578857E2825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88920" y="698400"/>
            <a:ext cx="5032440" cy="34848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A8265C-F9DD-418B-99B6-5A84BC2CBF9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88920" y="698400"/>
            <a:ext cx="5032440" cy="34848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86773B-1C49-4AA1-9FDE-53B7128AA6A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90720" y="698400"/>
            <a:ext cx="5032080" cy="34848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5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3524E7-FC40-4AC3-BD82-2926DD99FF6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90720" y="698400"/>
            <a:ext cx="5032080" cy="34848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5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A5684D-BA6C-4E96-A51C-9331D09FF59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88920" y="698400"/>
            <a:ext cx="5032440" cy="34848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189D39-4D10-4C6C-A77B-12366C20A59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88920" y="698400"/>
            <a:ext cx="5032440" cy="34848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3" descr="Logotipo2"/>
          <p:cNvPicPr/>
          <p:nvPr/>
        </p:nvPicPr>
        <p:blipFill>
          <a:blip r:embed="rId2"/>
          <a:stretch/>
        </p:blipFill>
        <p:spPr>
          <a:xfrm>
            <a:off x="8621640" y="6165720"/>
            <a:ext cx="939960" cy="459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9" descr=""/>
          <p:cNvPicPr/>
          <p:nvPr/>
        </p:nvPicPr>
        <p:blipFill>
          <a:blip r:embed="rId3"/>
          <a:stretch/>
        </p:blipFill>
        <p:spPr>
          <a:xfrm>
            <a:off x="71280" y="-243000"/>
            <a:ext cx="9418680" cy="10177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0" descr=""/>
          <p:cNvPicPr/>
          <p:nvPr/>
        </p:nvPicPr>
        <p:blipFill>
          <a:blip r:embed="rId4"/>
          <a:stretch/>
        </p:blipFill>
        <p:spPr>
          <a:xfrm>
            <a:off x="6176880" y="299880"/>
            <a:ext cx="3540240" cy="3970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7" descr=""/>
          <p:cNvPicPr/>
          <p:nvPr/>
        </p:nvPicPr>
        <p:blipFill>
          <a:blip r:embed="rId5"/>
          <a:stretch/>
        </p:blipFill>
        <p:spPr>
          <a:xfrm>
            <a:off x="-1384200" y="927000"/>
            <a:ext cx="2849400" cy="5668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1" descr=""/>
          <p:cNvPicPr/>
          <p:nvPr/>
        </p:nvPicPr>
        <p:blipFill>
          <a:blip r:embed="rId6"/>
          <a:stretch/>
        </p:blipFill>
        <p:spPr>
          <a:xfrm>
            <a:off x="560520" y="6237360"/>
            <a:ext cx="1512720" cy="46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784520" y="2565360"/>
            <a:ext cx="7105320" cy="21463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tângulo 5"/>
          <p:cNvSpPr/>
          <p:nvPr/>
        </p:nvSpPr>
        <p:spPr>
          <a:xfrm>
            <a:off x="2073240" y="-4132440"/>
            <a:ext cx="93600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Arial Black"/>
              </a:rPr>
              <a:t>Questão para debate:</a:t>
            </a:r>
            <a:endParaRPr b="0" lang="en-US" sz="36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1712880" y="2349360"/>
            <a:ext cx="7343640" cy="17398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4"/>
          <p:cNvSpPr/>
          <p:nvPr/>
        </p:nvSpPr>
        <p:spPr>
          <a:xfrm>
            <a:off x="3387960" y="1197000"/>
            <a:ext cx="38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5e0ff"/>
                </a:solidFill>
                <a:latin typeface="Arial"/>
              </a:rPr>
              <a:t>Questão para debate:</a:t>
            </a:r>
            <a:endParaRPr b="0" lang="en-US" sz="28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80" name="Retângulo 5"/>
          <p:cNvSpPr/>
          <p:nvPr/>
        </p:nvSpPr>
        <p:spPr>
          <a:xfrm>
            <a:off x="1568520" y="4581360"/>
            <a:ext cx="655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iste algumas vantagens que poderão ser oferecidas aos clientes  a partir das parcerias do seu negócio com fornecedores e concorrentes.</a:t>
            </a:r>
            <a:endParaRPr b="0" lang="en-US" sz="20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1639800" y="2637000"/>
            <a:ext cx="7345440" cy="17398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3316680" y="1197000"/>
            <a:ext cx="38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5e0ff"/>
                </a:solidFill>
                <a:latin typeface="Arial"/>
              </a:rPr>
              <a:t>Questão para debate:</a:t>
            </a:r>
            <a:endParaRPr b="0" lang="en-US" sz="28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83" name="Retângulo 5"/>
          <p:cNvSpPr/>
          <p:nvPr/>
        </p:nvSpPr>
        <p:spPr>
          <a:xfrm>
            <a:off x="1568520" y="4653000"/>
            <a:ext cx="7993080" cy="11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colham  um  produto  ou serviço, de um dos participantes do grupo,  e listem os argumentos que utilizariam  em uma negociação</a:t>
            </a:r>
            <a:endParaRPr b="0" lang="en-US" sz="20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5961240" y="1341360"/>
            <a:ext cx="3455640" cy="4508640"/>
          </a:xfrm>
          <a:prstGeom prst="rect">
            <a:avLst/>
          </a:prstGeom>
          <a:ln w="0">
            <a:noFill/>
          </a:ln>
        </p:spPr>
      </p:pic>
      <p:sp>
        <p:nvSpPr>
          <p:cNvPr id="85" name="CaixaDeTexto 3"/>
          <p:cNvSpPr/>
          <p:nvPr/>
        </p:nvSpPr>
        <p:spPr>
          <a:xfrm>
            <a:off x="1712880" y="1844640"/>
            <a:ext cx="396072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09cc9"/>
                </a:solidFill>
                <a:latin typeface="Arial"/>
              </a:rPr>
              <a:t>1.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que mais chamou  atenção no  Aprender a Empreender Serviços?</a:t>
            </a:r>
            <a:endParaRPr b="0" lang="en-US" sz="24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09cc9"/>
                </a:solidFill>
                <a:latin typeface="Arial"/>
              </a:rPr>
              <a:t>2.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atividades propostas poderão ajudá-los no dia-a-dia dos seus negócios?</a:t>
            </a:r>
            <a:endParaRPr b="0" lang="en-US" sz="24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09cc9"/>
                </a:solidFill>
                <a:latin typeface="Arial"/>
              </a:rPr>
              <a:t>3.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guma dúvida sobre a metodologia da Telessala?</a:t>
            </a:r>
            <a:endParaRPr b="0" lang="en-US" sz="24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1727640" y="1197000"/>
            <a:ext cx="350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9cc9"/>
                </a:solidFill>
                <a:latin typeface="Arial"/>
              </a:rPr>
              <a:t>Perguntas reflexivas:</a:t>
            </a:r>
            <a:endParaRPr b="0" lang="en-US" sz="28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3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84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3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288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3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400"/>
                            </p:stCondLst>
                            <p:childTnLst>
                              <p:par>
                                <p:cTn id="29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3"/>
          <p:cNvSpPr/>
          <p:nvPr/>
        </p:nvSpPr>
        <p:spPr>
          <a:xfrm>
            <a:off x="3176640" y="3213000"/>
            <a:ext cx="38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ontatos SEBRAE UF</a:t>
            </a:r>
            <a:endParaRPr b="0" lang="en-US" sz="28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ítulo 1"/>
          <p:cNvSpPr/>
          <p:nvPr/>
        </p:nvSpPr>
        <p:spPr>
          <a:xfrm>
            <a:off x="2505240" y="2133720"/>
            <a:ext cx="5816520" cy="29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5e0ff"/>
                </a:solidFill>
                <a:latin typeface="Arial"/>
                <a:ea typeface="바탕"/>
              </a:rPr>
              <a:t>PALESTRA DE SENSIBILIZAÇÃ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609cc9"/>
                </a:solidFill>
                <a:latin typeface="Arial"/>
              </a:rPr>
              <a:t>APRENDER A </a:t>
            </a:r>
            <a:br>
              <a:rPr sz="2800"/>
            </a:br>
            <a:r>
              <a:rPr b="0" lang="en-US" sz="2800" spc="-1" strike="noStrike">
                <a:solidFill>
                  <a:srgbClr val="609cc9"/>
                </a:solidFill>
                <a:latin typeface="Arial"/>
              </a:rPr>
              <a:t>EMPREENDER</a:t>
            </a:r>
            <a:endParaRPr b="0" lang="en-US" sz="28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50" name="Rounded Rectangle 3"/>
          <p:cNvSpPr/>
          <p:nvPr/>
        </p:nvSpPr>
        <p:spPr>
          <a:xfrm>
            <a:off x="1928880" y="1628640"/>
            <a:ext cx="6846840" cy="3888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549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080" indent="-357120">
              <a:spcBef>
                <a:spcPts val="700"/>
              </a:spcBef>
              <a:tabLst>
                <a:tab algn="l" pos="0"/>
                <a:tab algn="l" pos="2235240"/>
                <a:tab algn="l" pos="2873520"/>
                <a:tab algn="l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</p:spTree>
  </p:cSld>
  <p:transition spd="slow">
    <p:push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C:\Documents and Settings\User\Configurações locais\Temp\tmpBDD.JPG"/>
          <p:cNvPicPr/>
          <p:nvPr/>
        </p:nvPicPr>
        <p:blipFill>
          <a:blip r:embed="rId1"/>
          <a:stretch/>
        </p:blipFill>
        <p:spPr>
          <a:xfrm rot="20899800">
            <a:off x="1344240" y="723600"/>
            <a:ext cx="2757600" cy="30463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7"/>
          <p:cNvSpPr/>
          <p:nvPr/>
        </p:nvSpPr>
        <p:spPr>
          <a:xfrm>
            <a:off x="1857240" y="4005360"/>
            <a:ext cx="525636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09cc9"/>
                </a:solidFill>
                <a:latin typeface="Arial"/>
              </a:rPr>
              <a:t>Carga Horária: </a:t>
            </a:r>
            <a:r>
              <a:rPr b="0" lang="pt-PT" sz="2400" spc="-1" strike="noStrike">
                <a:solidFill>
                  <a:srgbClr val="609cc9"/>
                </a:solidFill>
                <a:latin typeface="Arial"/>
              </a:rPr>
              <a:t> 02h 30min</a:t>
            </a:r>
            <a:endParaRPr b="0" lang="en-US" sz="24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09cc9"/>
                </a:solidFill>
                <a:latin typeface="Arial"/>
              </a:rPr>
              <a:t>Conteúdo Referência:  </a:t>
            </a:r>
            <a:endParaRPr b="0" lang="en-US" sz="24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857240" y="501336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strumentos de gestão compatíveis com a realidade  do mercado atual, com os saberes necessários para o empreendedor criar e manter uma empresa eficiente. </a:t>
            </a:r>
            <a:endParaRPr b="0" lang="en-US" sz="18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665600" y="1341360"/>
            <a:ext cx="4953240" cy="17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e0ff"/>
                </a:solidFill>
                <a:latin typeface="Arial"/>
              </a:rPr>
              <a:t>APRENDER A EMPREENDER</a:t>
            </a:r>
            <a:endParaRPr b="0" lang="en-US" sz="36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9cc9"/>
                </a:solidFill>
                <a:latin typeface="Arial"/>
              </a:rPr>
              <a:t>SEI</a:t>
            </a:r>
            <a:endParaRPr b="0" lang="en-US" sz="3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8"/>
          <p:cNvSpPr/>
          <p:nvPr/>
        </p:nvSpPr>
        <p:spPr>
          <a:xfrm>
            <a:off x="2936880" y="6558480"/>
            <a:ext cx="87804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Arial"/>
              </a:rPr>
              <a:t>“</a:t>
            </a:r>
            <a:endParaRPr b="0" lang="en-US" sz="32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Arial"/>
              </a:rPr>
              <a:t>Peter Drucker </a:t>
            </a:r>
            <a:endParaRPr b="0" lang="en-US" sz="3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1"/>
          <a:stretch/>
        </p:blipFill>
        <p:spPr>
          <a:xfrm>
            <a:off x="5284800" y="2987640"/>
            <a:ext cx="4273560" cy="29196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4"/>
          <p:cNvSpPr/>
          <p:nvPr/>
        </p:nvSpPr>
        <p:spPr>
          <a:xfrm>
            <a:off x="1639800" y="1341360"/>
            <a:ext cx="770580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09cc9"/>
                </a:solidFill>
                <a:latin typeface="Arial"/>
              </a:rPr>
              <a:t>Empreendedorismo não é uma ciência, nem é arte. É uma prática” </a:t>
            </a:r>
            <a:endParaRPr b="0" lang="en-US" sz="28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5e0ff"/>
                </a:solidFill>
                <a:latin typeface="Arial"/>
              </a:rPr>
              <a:t>Peter Drucker </a:t>
            </a:r>
            <a:endParaRPr b="0" lang="en-US" sz="28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</p:spTree>
  </p:cSld>
  <p:transition spd="slow">
    <p:push dir="u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220"/>
                            </p:stCondLst>
                            <p:childTnLst>
                              <p:par>
                                <p:cTn id="57" nodeType="afterEffect" fill="hold" presetClass="entr" presetID="4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64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9"/>
          <p:cNvSpPr/>
          <p:nvPr/>
        </p:nvSpPr>
        <p:spPr>
          <a:xfrm>
            <a:off x="3962520" y="32068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59" name="Rectangle 19"/>
          <p:cNvSpPr/>
          <p:nvPr/>
        </p:nvSpPr>
        <p:spPr>
          <a:xfrm>
            <a:off x="1440" y="28116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-2535120" y="-603360"/>
            <a:ext cx="892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68160" y="2276640"/>
            <a:ext cx="77058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9cc9"/>
                </a:solidFill>
                <a:latin typeface="Arial"/>
              </a:rPr>
              <a:t>1-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Quais as principais dúvidas relacionadas 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 uma gestão empreendedora de sucess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9cc9"/>
                </a:solidFill>
                <a:latin typeface="Arial"/>
              </a:rPr>
              <a:t>2-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omo são percebidos os seus  fornecedores e concorrentes: rivais ou parceir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9cc9"/>
                </a:solidFill>
                <a:latin typeface="Arial"/>
              </a:rPr>
              <a:t>3-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omo negociar com fornecedores ou concorren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Times New Roman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1639800" y="141300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9cc9"/>
                </a:solidFill>
                <a:latin typeface="Arial"/>
              </a:rPr>
              <a:t>COMO EMPREENDEDORES:</a:t>
            </a:r>
            <a:endParaRPr b="0" lang="en-US" sz="28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</p:spTree>
  </p:cSld>
  <p:transition spd="slow">
    <p:push dir="u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3962520" y="32068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1440" y="28116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pic>
        <p:nvPicPr>
          <p:cNvPr id="65" name="Picture 7" descr="C:\Documents and Settings\User\Configurações locais\Temp\tmpBDD.JPG"/>
          <p:cNvPicPr/>
          <p:nvPr/>
        </p:nvPicPr>
        <p:blipFill>
          <a:blip r:embed="rId1"/>
          <a:stretch/>
        </p:blipFill>
        <p:spPr>
          <a:xfrm>
            <a:off x="1281240" y="2276640"/>
            <a:ext cx="2487600" cy="308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F:\FOTOS SEBRAE\KMP-DVD[(001548)09-50-28].JPG"/>
          <p:cNvPicPr/>
          <p:nvPr/>
        </p:nvPicPr>
        <p:blipFill>
          <a:blip r:embed="rId2"/>
          <a:stretch/>
        </p:blipFill>
        <p:spPr>
          <a:xfrm>
            <a:off x="4232160" y="2276640"/>
            <a:ext cx="4653000" cy="30096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8"/>
          <p:cNvSpPr/>
          <p:nvPr/>
        </p:nvSpPr>
        <p:spPr>
          <a:xfrm>
            <a:off x="2720880" y="1413000"/>
            <a:ext cx="51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9cc9"/>
                </a:solidFill>
                <a:latin typeface="Arial"/>
              </a:rPr>
              <a:t>APRENDER A EMPREENDER</a:t>
            </a:r>
            <a:endParaRPr b="0" lang="en-US" sz="28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</p:spTree>
  </p:cSld>
  <p:transition spd="slow">
    <p:push dir="u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Espaço Reservado para Conteúdo 95"/>
          <p:cNvSpPr/>
          <p:nvPr/>
        </p:nvSpPr>
        <p:spPr>
          <a:xfrm>
            <a:off x="920880" y="1341360"/>
            <a:ext cx="85532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09cc9"/>
                </a:solidFill>
                <a:latin typeface="Arial"/>
              </a:rPr>
              <a:t>O LIVRO:</a:t>
            </a:r>
            <a:endParaRPr b="0" lang="en-US" sz="20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09cc9"/>
                </a:solidFill>
                <a:latin typeface="Arial"/>
              </a:rPr>
              <a:t>1 -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u, o empreendedor</a:t>
            </a:r>
            <a:endParaRPr b="0" lang="en-US" sz="20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09cc9"/>
                </a:solidFill>
                <a:latin typeface="Arial"/>
              </a:rPr>
              <a:t>2 -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rspectiva geral do mercado:tendências</a:t>
            </a:r>
            <a:endParaRPr b="0" lang="en-US" sz="20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09cc9"/>
                </a:solidFill>
                <a:latin typeface="Arial"/>
              </a:rPr>
              <a:t>3 -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úblico consumidor: foco no cliente</a:t>
            </a:r>
            <a:endParaRPr b="0" lang="en-US" sz="20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09cc9"/>
                </a:solidFill>
                <a:latin typeface="Arial"/>
              </a:rPr>
              <a:t>4 -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udo de mercado: fornecedores e concorrentes</a:t>
            </a:r>
            <a:endParaRPr b="0" lang="en-US" sz="20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09cc9"/>
                </a:solidFill>
                <a:latin typeface="Arial"/>
              </a:rPr>
              <a:t>5 -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empresa e o mercado:marketing</a:t>
            </a:r>
            <a:endParaRPr b="0" lang="en-US" sz="20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09cc9"/>
                </a:solidFill>
                <a:latin typeface="Arial"/>
              </a:rPr>
              <a:t>6 -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sultados da empresa: projeção</a:t>
            </a:r>
            <a:endParaRPr b="0" lang="en-US" sz="20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09cc9"/>
                </a:solidFill>
                <a:latin typeface="Arial"/>
              </a:rPr>
              <a:t>7 -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Caixa da Empresa: fluxo de caixa</a:t>
            </a:r>
            <a:endParaRPr b="0" lang="en-US" sz="20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09cc9"/>
                </a:solidFill>
                <a:latin typeface="Arial"/>
              </a:rPr>
              <a:t>8 -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pital da Empresa: capital de giro</a:t>
            </a:r>
            <a:endParaRPr b="0" lang="en-US" sz="20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09cc9"/>
                </a:solidFill>
                <a:latin typeface="Arial"/>
              </a:rPr>
              <a:t>9 -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iabilidade da empresa: indicadores de desempenho</a:t>
            </a:r>
            <a:endParaRPr b="0" lang="en-US" sz="20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09cc9"/>
                </a:solidFill>
                <a:latin typeface="Arial"/>
              </a:rPr>
              <a:t>10 -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plano da empresa: plano de negócios</a:t>
            </a:r>
            <a:endParaRPr b="0" lang="en-US" sz="20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pic>
        <p:nvPicPr>
          <p:cNvPr id="69" name="Picture 7" descr="C:\Documents and Settings\User\Configurações locais\Temp\tmpBDD.JPG"/>
          <p:cNvPicPr/>
          <p:nvPr/>
        </p:nvPicPr>
        <p:blipFill>
          <a:blip r:embed="rId1"/>
          <a:stretch/>
        </p:blipFill>
        <p:spPr>
          <a:xfrm>
            <a:off x="7296120" y="1773360"/>
            <a:ext cx="219240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4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4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2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4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4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4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3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4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4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4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3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4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4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4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4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4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4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4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4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4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5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4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4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4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6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4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4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6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4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4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4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7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400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4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4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4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4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4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400"/>
                            </p:stCondLst>
                            <p:childTnLst>
                              <p:par>
                                <p:cTn id="1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8" descr="F:\FOTOS SEBRAE\KMP-DVD[(003254)09-52-32].JPG"/>
          <p:cNvPicPr/>
          <p:nvPr/>
        </p:nvPicPr>
        <p:blipFill>
          <a:blip r:embed="rId1"/>
          <a:stretch/>
        </p:blipFill>
        <p:spPr>
          <a:xfrm>
            <a:off x="3224160" y="2487600"/>
            <a:ext cx="3243240" cy="2170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F:\FOTOS SEBRAE\KMP-DVD[(000785)09-46-00].JPG"/>
          <p:cNvPicPr/>
          <p:nvPr/>
        </p:nvPicPr>
        <p:blipFill>
          <a:blip r:embed="rId2"/>
          <a:stretch/>
        </p:blipFill>
        <p:spPr>
          <a:xfrm>
            <a:off x="5888160" y="1481040"/>
            <a:ext cx="3395520" cy="2328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F:\FOTOS SEBRAE\KMP-DVD[(002623)09-52-00].JPG"/>
          <p:cNvPicPr/>
          <p:nvPr/>
        </p:nvPicPr>
        <p:blipFill>
          <a:blip r:embed="rId3"/>
          <a:stretch/>
        </p:blipFill>
        <p:spPr>
          <a:xfrm>
            <a:off x="554040" y="3786120"/>
            <a:ext cx="2963880" cy="2217960"/>
          </a:xfrm>
          <a:prstGeom prst="rect">
            <a:avLst/>
          </a:prstGeom>
          <a:ln w="0">
            <a:noFill/>
          </a:ln>
        </p:spPr>
      </p:pic>
      <p:sp>
        <p:nvSpPr>
          <p:cNvPr id="73" name="CaixaDeTexto 1"/>
          <p:cNvSpPr/>
          <p:nvPr/>
        </p:nvSpPr>
        <p:spPr>
          <a:xfrm>
            <a:off x="3800520" y="1052640"/>
            <a:ext cx="19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09cc9"/>
                </a:solidFill>
                <a:latin typeface="Arial"/>
              </a:rPr>
              <a:t>O DVD</a:t>
            </a:r>
            <a:endParaRPr b="0" lang="en-US" sz="32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9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3246480" y="1989000"/>
            <a:ext cx="6681600" cy="23767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2865600" y="105264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5e0ff"/>
                </a:solidFill>
                <a:latin typeface="Arial"/>
              </a:rPr>
              <a:t>Conhecendo melhor o livro </a:t>
            </a:r>
            <a:endParaRPr b="0" lang="en-US" sz="28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  <p:sp>
        <p:nvSpPr>
          <p:cNvPr id="76" name="Retângulo 5"/>
          <p:cNvSpPr/>
          <p:nvPr/>
        </p:nvSpPr>
        <p:spPr>
          <a:xfrm>
            <a:off x="2576520" y="4797360"/>
            <a:ext cx="561672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99cc"/>
                </a:solidFill>
                <a:latin typeface="Arial"/>
              </a:rPr>
              <a:t>Textos: </a:t>
            </a:r>
            <a:endParaRPr b="0" lang="en-US" sz="20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cc"/>
                </a:solidFill>
                <a:latin typeface="Arial"/>
              </a:rPr>
              <a:t>Seu Negócio x Fornecedores concorrentes: </a:t>
            </a:r>
            <a:endParaRPr b="0" lang="en-US" sz="20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cc"/>
                </a:solidFill>
                <a:latin typeface="Arial"/>
              </a:rPr>
              <a:t>Rivalidade ou Parceria</a:t>
            </a:r>
            <a:endParaRPr b="0" lang="en-US" sz="2000" spc="-1" strike="noStrike" u="sng">
              <a:solidFill>
                <a:srgbClr val="3366cc"/>
              </a:solidFill>
              <a:uFillTx/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cc"/>
                </a:solidFill>
                <a:latin typeface="Arial"/>
              </a:rPr>
              <a:t>Aspectos Fundamentais da Negociação</a:t>
            </a:r>
            <a:endParaRPr b="0" lang="en-US" sz="2000" spc="-1" strike="noStrike" u="sng">
              <a:solidFill>
                <a:srgbClr val="3366cc"/>
              </a:solidFill>
              <a:uFillTx/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01:54:18Z</dcterms:created>
  <dc:creator>TW</dc:creator>
  <dc:description/>
  <dc:language>en-US</dc:language>
  <cp:lastModifiedBy>Diego Soares</cp:lastModifiedBy>
  <dcterms:modified xsi:type="dcterms:W3CDTF">2012-08-27T14:09:07Z</dcterms:modified>
  <cp:revision>238</cp:revision>
  <dc:subject/>
  <dc:title>PRÁTICAS DE EMPREENDEDORISMO</dc:title>
</cp:coreProperties>
</file>