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7120" y="698400"/>
            <a:ext cx="50353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413B4-6C14-4D6D-BA72-EFEF9424D96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12967-1320-4F97-8B75-31FBFDF2A1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053CE-0618-47B4-9B4B-4E50F300EF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BA36F-1CCC-45DD-801B-2BDD5006AC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8D60A-4AC4-49BF-8066-907DFCE933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0720" y="698400"/>
            <a:ext cx="5032080" cy="3484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5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7FBA6-2A17-49FC-B869-1F2B3E68AA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0720" y="698400"/>
            <a:ext cx="5032080" cy="3484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5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CFA0F-4A61-42C3-A364-7E02BB07C6F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FFDE6-46F1-4A4F-BC4A-5880041F48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tipo2"/>
          <p:cNvPicPr/>
          <p:nvPr/>
        </p:nvPicPr>
        <p:blipFill>
          <a:blip r:embed="rId2"/>
          <a:stretch/>
        </p:blipFill>
        <p:spPr>
          <a:xfrm>
            <a:off x="8621640" y="6165720"/>
            <a:ext cx="939960" cy="459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"/>
          <p:cNvPicPr/>
          <p:nvPr/>
        </p:nvPicPr>
        <p:blipFill>
          <a:blip r:embed="rId3"/>
          <a:stretch/>
        </p:blipFill>
        <p:spPr>
          <a:xfrm>
            <a:off x="71280" y="-243000"/>
            <a:ext cx="9418680" cy="1017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"/>
          <p:cNvPicPr/>
          <p:nvPr/>
        </p:nvPicPr>
        <p:blipFill>
          <a:blip r:embed="rId4"/>
          <a:stretch/>
        </p:blipFill>
        <p:spPr>
          <a:xfrm>
            <a:off x="6176880" y="299880"/>
            <a:ext cx="3540240" cy="397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2" descr=""/>
          <p:cNvPicPr/>
          <p:nvPr/>
        </p:nvPicPr>
        <p:blipFill>
          <a:blip r:embed="rId5"/>
          <a:stretch/>
        </p:blipFill>
        <p:spPr>
          <a:xfrm>
            <a:off x="-1384200" y="927000"/>
            <a:ext cx="2849400" cy="5668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"/>
          <p:cNvPicPr/>
          <p:nvPr/>
        </p:nvPicPr>
        <p:blipFill>
          <a:blip r:embed="rId6"/>
          <a:stretch/>
        </p:blipFill>
        <p:spPr>
          <a:xfrm>
            <a:off x="560520" y="6237360"/>
            <a:ext cx="151272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784520" y="2565360"/>
            <a:ext cx="7105320" cy="2146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ângulo 5"/>
          <p:cNvSpPr/>
          <p:nvPr/>
        </p:nvSpPr>
        <p:spPr>
          <a:xfrm>
            <a:off x="1568520" y="4076640"/>
            <a:ext cx="6553080" cy="18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ários motivos podem levar um empreendedor a fazer uma parceria com um fornecedor. 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nse em seu negócio.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tipos de parcerias você poderá fazer co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us fornecedores?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639800" y="1914480"/>
            <a:ext cx="6991560" cy="2024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1587960" y="119700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</a:rPr>
              <a:t>Questão para debate: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ixaDeTexto 3"/>
          <p:cNvSpPr/>
          <p:nvPr/>
        </p:nvSpPr>
        <p:spPr>
          <a:xfrm>
            <a:off x="1712880" y="1844640"/>
            <a:ext cx="39607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9cc9"/>
                </a:solidFill>
                <a:latin typeface="Arial"/>
              </a:rPr>
              <a:t>1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mais chamou  atenção no  Aprender a Empreender Serviços?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9cc9"/>
                </a:solidFill>
                <a:latin typeface="Arial"/>
              </a:rPr>
              <a:t>2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tividades propostas poderão ajudá-los no dia-a-dia dos seus negócios?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9cc9"/>
                </a:solidFill>
                <a:latin typeface="Arial"/>
              </a:rPr>
              <a:t>3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 dúvida sobre a metodologia da Telessala?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6105600" y="1268280"/>
            <a:ext cx="3313080" cy="4524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1727640" y="119700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Perguntas reflexivas: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75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77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3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3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3176640" y="32130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ntatos SEBRAE UF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4880" y="2133360"/>
            <a:ext cx="5816520" cy="29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  <a:ea typeface="바탕"/>
              </a:rPr>
              <a:t>PALESTRA DE SENSIBILIZAÇÃ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APRENDER A </a:t>
            </a:r>
            <a:br>
              <a:rPr sz="2800"/>
            </a:b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EMPREENDER SERVIÇOS</a:t>
            </a:r>
            <a:br>
              <a:rPr sz="2800"/>
            </a:b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SE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Rounded Rectangle 4"/>
          <p:cNvSpPr/>
          <p:nvPr/>
        </p:nvSpPr>
        <p:spPr>
          <a:xfrm>
            <a:off x="1928880" y="1628640"/>
            <a:ext cx="6846840" cy="388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549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080" indent="-357120">
              <a:spcBef>
                <a:spcPts val="700"/>
              </a:spcBef>
              <a:tabLst>
                <a:tab algn="l" pos="0"/>
                <a:tab algn="l" pos="2235240"/>
                <a:tab algn="l" pos="287352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1857240" y="4005360"/>
            <a:ext cx="52563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09cc9"/>
                </a:solidFill>
                <a:latin typeface="Arial"/>
              </a:rPr>
              <a:t>Carga Horária: </a:t>
            </a:r>
            <a:r>
              <a:rPr b="0" lang="pt-PT" sz="2400" spc="-1" strike="noStrike">
                <a:solidFill>
                  <a:srgbClr val="609cc9"/>
                </a:solidFill>
                <a:latin typeface="Arial"/>
              </a:rPr>
              <a:t> 02h 30min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09cc9"/>
                </a:solidFill>
                <a:latin typeface="Arial"/>
              </a:rPr>
              <a:t>Conteúdo Referência:  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857240" y="5013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trumentos de gestão compatíveis com a realidade  do mercado atual, com os saberes necessários para o empreendedor criar e manter uma empresa eficiente. </a:t>
            </a:r>
            <a:endParaRPr b="0" lang="en-US" sz="1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4665600" y="1341360"/>
            <a:ext cx="4953240" cy="23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e0ff"/>
                </a:solidFill>
                <a:latin typeface="Arial"/>
              </a:rPr>
              <a:t>APRENDER A EMPREENDER</a:t>
            </a:r>
            <a:endParaRPr b="0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9cc9"/>
                </a:solidFill>
                <a:latin typeface="Arial"/>
              </a:rPr>
              <a:t>SERVIÇOS</a:t>
            </a:r>
            <a:endParaRPr b="0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9cc9"/>
                </a:solidFill>
                <a:latin typeface="Arial"/>
              </a:rPr>
              <a:t>SEI</a:t>
            </a:r>
            <a:endParaRPr b="0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 rot="20671200">
            <a:off x="1481040" y="731520"/>
            <a:ext cx="23050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7" descr="sucesso.jpg"/>
          <p:cNvPicPr/>
          <p:nvPr/>
        </p:nvPicPr>
        <p:blipFill>
          <a:blip r:embed="rId1"/>
          <a:stretch/>
        </p:blipFill>
        <p:spPr>
          <a:xfrm>
            <a:off x="3005280" y="2560680"/>
            <a:ext cx="5621040" cy="3425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1639800" y="1341360"/>
            <a:ext cx="77058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09cc9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09cc9"/>
                </a:solidFill>
                <a:latin typeface="Arial"/>
              </a:rPr>
              <a:t>Onde há uma empresa de sucesso, alguém tomou alguma vez uma decisão valente.”</a:t>
            </a:r>
            <a:br>
              <a:rPr sz="2800"/>
            </a:b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</a:rPr>
              <a:t>Peter Drucker 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62520" y="32068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1440" y="2811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68160" y="2276640"/>
            <a:ext cx="7561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9cc9"/>
                </a:solidFill>
                <a:latin typeface="Arial"/>
              </a:rPr>
              <a:t>1-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Quais as principais dúvidas relacionad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uma gestão empreendedora de suce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9cc9"/>
                </a:solidFill>
                <a:latin typeface="Arial"/>
              </a:rPr>
              <a:t>2-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mo o bom relacionamento com os fornecedores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derá contribuir para o sucesso de um negóc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9cc9"/>
                </a:solidFill>
                <a:latin typeface="Arial"/>
              </a:rPr>
              <a:t>3-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mo o bom relacionamento  com a concorrên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derá contribuir para o sucesso de um negóc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639800" y="14130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COMO EMPREENDEDORES: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962520" y="32068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440" y="2811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1784520" y="2565360"/>
            <a:ext cx="230472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4664160" y="2919240"/>
            <a:ext cx="3962160" cy="200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1712880" y="1413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APRENDER A EMPREENDER SERVIÇOS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496880" y="1125000"/>
            <a:ext cx="8553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O LIV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1 -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stabelecer metas é saber onde se quer cheg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2 -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empreendedor atento transforma as oportunidades em real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3 -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Buscar informações sobre o cliente é manter-se sempre atualiz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4 -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egociar para conquistar o seu espaç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5 -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azer o melhor e encantar o cliente exigência de qualidade e efici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6 -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lanejar e monitorar para manter o foco da empre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7 -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mprometimento com as metas e os result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8 -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empreendedor, o capital de giro e a persist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9 -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alcular os riscos e decidir com responsabil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609cc9"/>
                </a:solidFill>
                <a:latin typeface="Arial"/>
              </a:rPr>
              <a:t>10 -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empreendedor, o plano da empresa e a autoconfianç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4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4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4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4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4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4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4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4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4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4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4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4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920880" y="4175280"/>
            <a:ext cx="3303360" cy="196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2"/>
          <a:stretch/>
        </p:blipFill>
        <p:spPr>
          <a:xfrm>
            <a:off x="3292560" y="2560680"/>
            <a:ext cx="3174840" cy="217008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1"/>
          <p:cNvSpPr/>
          <p:nvPr/>
        </p:nvSpPr>
        <p:spPr>
          <a:xfrm>
            <a:off x="3800520" y="1052640"/>
            <a:ext cx="19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09cc9"/>
                </a:solidFill>
                <a:latin typeface="Arial"/>
              </a:rPr>
              <a:t>O DVD</a:t>
            </a:r>
            <a:endParaRPr b="0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5956200" y="1438200"/>
            <a:ext cx="367524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ângulo 5"/>
          <p:cNvSpPr/>
          <p:nvPr/>
        </p:nvSpPr>
        <p:spPr>
          <a:xfrm>
            <a:off x="2576520" y="4797360"/>
            <a:ext cx="56167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cc"/>
                </a:solidFill>
                <a:latin typeface="Arial"/>
              </a:rPr>
              <a:t>Textos: 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cc"/>
                </a:solidFill>
                <a:latin typeface="Arial"/>
              </a:rPr>
              <a:t>Seu Negócio x Fornecedores concorrentes: 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cc"/>
                </a:solidFill>
                <a:latin typeface="Arial"/>
              </a:rPr>
              <a:t>Rivalidade ou Parceria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cc"/>
                </a:solidFill>
                <a:latin typeface="Arial"/>
              </a:rPr>
              <a:t>Aspectos Fundamentais da Negociação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4160880" y="1773360"/>
            <a:ext cx="230508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2865600" y="105264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</a:rPr>
              <a:t>Conhecendo melhor o livro 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01:54:18Z</dcterms:created>
  <dc:creator>TW</dc:creator>
  <dc:description/>
  <dc:language>en-US</dc:language>
  <cp:lastModifiedBy>Diego Soares</cp:lastModifiedBy>
  <dcterms:modified xsi:type="dcterms:W3CDTF">2012-08-24T15:25:38Z</dcterms:modified>
  <cp:revision>264</cp:revision>
  <dc:subject/>
  <dc:title>PRÁTICAS DE EMPREENDEDORISMO</dc:title>
</cp:coreProperties>
</file>