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7120" y="698400"/>
            <a:ext cx="50353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ADFD2-CDC3-460D-8A07-646F1F72258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E50F5-0580-4E6D-B394-2D1F6DA801E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581DA-AE1F-440F-9D1E-91FE5E9C9D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9ED36-1AC7-40B4-8626-2C89D429E47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7CFB6-0659-46E6-A928-BBA7EA1BE19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6C508-0D8C-4529-BABD-BC03590F30F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0720" y="698400"/>
            <a:ext cx="5032080" cy="3484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5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5E8E2-5C9C-4981-AEA5-BD72CB530D6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90720" y="698400"/>
            <a:ext cx="5032080" cy="3484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5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7C938-E577-4685-8295-AFFACFA4BD0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0541D-0F70-4D01-9283-94CE379D4DD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tipo2"/>
          <p:cNvPicPr/>
          <p:nvPr/>
        </p:nvPicPr>
        <p:blipFill>
          <a:blip r:embed="rId2"/>
          <a:stretch/>
        </p:blipFill>
        <p:spPr>
          <a:xfrm>
            <a:off x="8621640" y="6165720"/>
            <a:ext cx="939960" cy="459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"/>
          <p:cNvPicPr/>
          <p:nvPr/>
        </p:nvPicPr>
        <p:blipFill>
          <a:blip r:embed="rId3"/>
          <a:stretch/>
        </p:blipFill>
        <p:spPr>
          <a:xfrm>
            <a:off x="71280" y="-243000"/>
            <a:ext cx="9418680" cy="1017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"/>
          <p:cNvPicPr/>
          <p:nvPr/>
        </p:nvPicPr>
        <p:blipFill>
          <a:blip r:embed="rId4"/>
          <a:stretch/>
        </p:blipFill>
        <p:spPr>
          <a:xfrm>
            <a:off x="6176880" y="299880"/>
            <a:ext cx="3540240" cy="397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3" descr=""/>
          <p:cNvPicPr/>
          <p:nvPr/>
        </p:nvPicPr>
        <p:blipFill>
          <a:blip r:embed="rId5"/>
          <a:stretch/>
        </p:blipFill>
        <p:spPr>
          <a:xfrm>
            <a:off x="-1384200" y="927000"/>
            <a:ext cx="2849400" cy="5668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1" descr=""/>
          <p:cNvPicPr/>
          <p:nvPr/>
        </p:nvPicPr>
        <p:blipFill>
          <a:blip r:embed="rId6"/>
          <a:stretch/>
        </p:blipFill>
        <p:spPr>
          <a:xfrm>
            <a:off x="560520" y="6237360"/>
            <a:ext cx="151272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84520" y="2565360"/>
            <a:ext cx="7105320" cy="2146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587960" y="206064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e0ff"/>
                </a:solidFill>
                <a:latin typeface="Arial"/>
              </a:rPr>
              <a:t>Questão para debate: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75" name="Retângulo 5"/>
          <p:cNvSpPr/>
          <p:nvPr/>
        </p:nvSpPr>
        <p:spPr>
          <a:xfrm>
            <a:off x="1568520" y="28526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cê acredita que observar o atendimento da concorrência pode ajudar sua equipe a superar a etapa de objeções ao produto por parte do cliente? Por quê?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1760400" y="1960560"/>
            <a:ext cx="4649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12880" y="3573360"/>
          <a:ext cx="7634160" cy="2181240"/>
        </p:xfrm>
        <a:graphic>
          <a:graphicData uri="http://schemas.openxmlformats.org/drawingml/2006/table">
            <a:tbl>
              <a:tblPr/>
              <a:tblGrid>
                <a:gridCol w="3817800"/>
                <a:gridCol w="381636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ionais</a:t>
                      </a:r>
                      <a:endParaRPr b="0" lang="en-US" sz="1200" spc="-1" strike="noStrike" u="sng">
                        <a:solidFill>
                          <a:srgbClr val="3366cc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ocionais</a:t>
                      </a:r>
                      <a:endParaRPr b="0" lang="en-US" sz="1200" spc="-1" strike="noStrike" u="sng">
                        <a:solidFill>
                          <a:srgbClr val="3366cc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71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3366cc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3366cc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3366cc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3366cc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3366cc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3366cc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271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3366cc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3366cc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3366cc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3366cc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271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3366cc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3366cc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3366cc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3366cc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  <p:sp>
        <p:nvSpPr>
          <p:cNvPr id="78" name="Rectangle 7"/>
          <p:cNvSpPr/>
          <p:nvPr/>
        </p:nvSpPr>
        <p:spPr>
          <a:xfrm>
            <a:off x="1587960" y="98100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e0ff"/>
                </a:solidFill>
                <a:latin typeface="Arial"/>
              </a:rPr>
              <a:t>Questão para debate: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79" name="Retângulo 5"/>
          <p:cNvSpPr/>
          <p:nvPr/>
        </p:nvSpPr>
        <p:spPr>
          <a:xfrm>
            <a:off x="1639800" y="1628640"/>
            <a:ext cx="7634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tivações de compra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ço, Benefícios para família, Conveniência, Manutenção da imagem, Garantias, Economia, Tempo de entrega, Segurança, Serviços de pós-venda, Imagem do estilo de vida, Aventura e excitação, Prazer, Qualidade, Orgulho, Fantasia, Status.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583280" y="981000"/>
            <a:ext cx="35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9cc9"/>
                </a:solidFill>
                <a:latin typeface="Arial"/>
              </a:rPr>
              <a:t>Perguntas reflexivas: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1" name="CaixaDeTexto 3"/>
          <p:cNvSpPr/>
          <p:nvPr/>
        </p:nvSpPr>
        <p:spPr>
          <a:xfrm>
            <a:off x="1568520" y="1700280"/>
            <a:ext cx="453708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09cc9"/>
                </a:solidFill>
                <a:latin typeface="Arial"/>
              </a:rPr>
              <a:t>1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 mais chamou  atenção em Boas Vendas! Como vender mais e melhor no varejo?</a:t>
            </a: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09cc9"/>
                </a:solidFill>
                <a:latin typeface="Arial"/>
              </a:rPr>
              <a:t>2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tividades propostas poderão ajudá-los no dia-a-dia dos seus negócios?</a:t>
            </a: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09cc9"/>
                </a:solidFill>
                <a:latin typeface="Arial"/>
              </a:rPr>
              <a:t>3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 dúvida sobre a metodologia da Telessala?</a:t>
            </a: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pic>
        <p:nvPicPr>
          <p:cNvPr id="82" name="Picture 8" descr="http://www.cabecadecuia.com/imagem/materias/7fbd90f1d98d274627c11af0e7196a7a.jpg"/>
          <p:cNvPicPr/>
          <p:nvPr/>
        </p:nvPicPr>
        <p:blipFill>
          <a:blip r:embed="rId1"/>
          <a:stretch/>
        </p:blipFill>
        <p:spPr>
          <a:xfrm>
            <a:off x="6681960" y="1628640"/>
            <a:ext cx="2734920" cy="3972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3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7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3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79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3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176640" y="32130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ntatos SEBRAE UF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ítulo 1"/>
          <p:cNvSpPr/>
          <p:nvPr/>
        </p:nvSpPr>
        <p:spPr>
          <a:xfrm>
            <a:off x="2505240" y="2133720"/>
            <a:ext cx="5816520" cy="29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e0ff"/>
                </a:solidFill>
                <a:latin typeface="Arial"/>
                <a:ea typeface="바탕"/>
              </a:rPr>
              <a:t>PALESTRA DE SENSIBILIZAÇÃ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609cc9"/>
                </a:solidFill>
                <a:latin typeface="Arial"/>
              </a:rPr>
              <a:t>BOAS VENDAS!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9cc9"/>
                </a:solidFill>
                <a:latin typeface="Arial"/>
              </a:rPr>
              <a:t>Como vender mais e melhor no varejo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0" name="Rounded Rectangle 3"/>
          <p:cNvSpPr/>
          <p:nvPr/>
        </p:nvSpPr>
        <p:spPr>
          <a:xfrm>
            <a:off x="1928880" y="1628640"/>
            <a:ext cx="6846840" cy="388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549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080" indent="-357120">
              <a:spcBef>
                <a:spcPts val="700"/>
              </a:spcBef>
              <a:tabLst>
                <a:tab algn="l" pos="0"/>
                <a:tab algn="l" pos="2235240"/>
                <a:tab algn="l" pos="287352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http://www.cabecadecuia.com/imagem/materias/7fbd90f1d98d274627c11af0e7196a7a.jpg"/>
          <p:cNvPicPr/>
          <p:nvPr/>
        </p:nvPicPr>
        <p:blipFill>
          <a:blip r:embed="rId1"/>
          <a:stretch/>
        </p:blipFill>
        <p:spPr>
          <a:xfrm rot="20310000">
            <a:off x="1450440" y="465120"/>
            <a:ext cx="2216160" cy="3092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1857240" y="4005360"/>
            <a:ext cx="52563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09cc9"/>
                </a:solidFill>
                <a:latin typeface="Arial"/>
              </a:rPr>
              <a:t>Carga Horária: </a:t>
            </a:r>
            <a:r>
              <a:rPr b="0" lang="pt-PT" sz="2400" spc="-1" strike="noStrike">
                <a:solidFill>
                  <a:srgbClr val="609cc9"/>
                </a:solidFill>
                <a:latin typeface="Arial"/>
              </a:rPr>
              <a:t> 02h 30min</a:t>
            </a: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09cc9"/>
                </a:solidFill>
                <a:latin typeface="Arial"/>
              </a:rPr>
              <a:t>Conteúdo Referência:  </a:t>
            </a: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857240" y="5013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ções fundamentais relacionadas à gestão e ao funcionamento de um pequeno negócio de vendas, no varejo.</a:t>
            </a:r>
            <a:endParaRPr b="0" lang="en-US" sz="1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440160" y="1341360"/>
            <a:ext cx="617868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e0ff"/>
                </a:solidFill>
                <a:latin typeface="Arial"/>
              </a:rPr>
              <a:t>BOAS VENDAS! </a:t>
            </a:r>
            <a:endParaRPr b="0" lang="en-US" sz="36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9cc9"/>
                </a:solidFill>
                <a:latin typeface="Arial"/>
              </a:rPr>
              <a:t>COMO VENDER MAIS </a:t>
            </a:r>
            <a:endParaRPr b="0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9cc9"/>
                </a:solidFill>
                <a:latin typeface="Arial"/>
              </a:rPr>
              <a:t>E MELHOR NO </a:t>
            </a:r>
            <a:br>
              <a:rPr sz="3200"/>
            </a:br>
            <a:r>
              <a:rPr b="0" lang="en-US" sz="3200" spc="-1" strike="noStrike">
                <a:solidFill>
                  <a:srgbClr val="609cc9"/>
                </a:solidFill>
                <a:latin typeface="Arial"/>
              </a:rPr>
              <a:t>VAREJO SEI</a:t>
            </a:r>
            <a:endParaRPr b="0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C:\Users\Nara\Pictures\thomas.jpg"/>
          <p:cNvPicPr/>
          <p:nvPr/>
        </p:nvPicPr>
        <p:blipFill>
          <a:blip r:embed="rId1"/>
          <a:stretch/>
        </p:blipFill>
        <p:spPr>
          <a:xfrm>
            <a:off x="1133640" y="907920"/>
            <a:ext cx="4181400" cy="5615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5673600" y="1916280"/>
            <a:ext cx="381636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09cc9"/>
                </a:solidFill>
                <a:latin typeface="Arial"/>
              </a:rPr>
              <a:t>"Não quero inventar nada que não venda.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09cc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09cc9"/>
                </a:solidFill>
                <a:latin typeface="Arial"/>
              </a:rPr>
              <a:t>A venda é a prova da utilidade, e ser útil é ter sucesso." 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e0ff"/>
                </a:solidFill>
                <a:latin typeface="Arial"/>
              </a:rPr>
              <a:t>Thomas Edison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51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9"/>
          <p:cNvSpPr/>
          <p:nvPr/>
        </p:nvSpPr>
        <p:spPr>
          <a:xfrm>
            <a:off x="3962520" y="32068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1440" y="2811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68160" y="2205000"/>
            <a:ext cx="7561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9cc9"/>
                </a:solidFill>
                <a:latin typeface="Arial"/>
              </a:rPr>
              <a:t>1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is as principais dúvidas relacion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ucesso nas ven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9cc9"/>
                </a:solidFill>
                <a:latin typeface="Arial"/>
              </a:rPr>
              <a:t>2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contornar as objeções 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s na hora de ven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9cc9"/>
                </a:solidFill>
                <a:latin typeface="Arial"/>
              </a:rPr>
              <a:t>3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definir os produtos e serviç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ter  sucesso do seu negóc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639800" y="14130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9cc9"/>
                </a:solidFill>
                <a:latin typeface="Arial"/>
              </a:rPr>
              <a:t>COMO EMPREENDEDORES: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962520" y="32068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440" y="2811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pic>
        <p:nvPicPr>
          <p:cNvPr id="63" name="Picture 8" descr="http://www.cabecadecuia.com/imagem/materias/7fbd90f1d98d274627c11af0e7196a7a.jpg"/>
          <p:cNvPicPr/>
          <p:nvPr/>
        </p:nvPicPr>
        <p:blipFill>
          <a:blip r:embed="rId1"/>
          <a:stretch/>
        </p:blipFill>
        <p:spPr>
          <a:xfrm>
            <a:off x="1568520" y="2492280"/>
            <a:ext cx="2266920" cy="3097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Nara\Pictures\ataliba.jpg"/>
          <p:cNvPicPr/>
          <p:nvPr/>
        </p:nvPicPr>
        <p:blipFill>
          <a:blip r:embed="rId2"/>
          <a:stretch/>
        </p:blipFill>
        <p:spPr>
          <a:xfrm>
            <a:off x="4876920" y="2919240"/>
            <a:ext cx="3614760" cy="2384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1712880" y="141300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9cc9"/>
                </a:solidFill>
                <a:latin typeface="Arial"/>
              </a:rPr>
              <a:t>BOAS VENDAS! COMO VENDER MAIS E MELHOR NO VAREJO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http://www.cabecadecuia.com/imagem/materias/7fbd90f1d98d274627c11af0e7196a7a.jpg"/>
          <p:cNvPicPr/>
          <p:nvPr/>
        </p:nvPicPr>
        <p:blipFill>
          <a:blip r:embed="rId1"/>
          <a:stretch/>
        </p:blipFill>
        <p:spPr>
          <a:xfrm rot="1107000">
            <a:off x="6446520" y="2374560"/>
            <a:ext cx="2556000" cy="3484440"/>
          </a:xfrm>
          <a:prstGeom prst="rect">
            <a:avLst/>
          </a:prstGeom>
          <a:ln w="0">
            <a:noFill/>
          </a:ln>
        </p:spPr>
      </p:pic>
      <p:sp>
        <p:nvSpPr>
          <p:cNvPr id="67" name="Espaço Reservado para Conteúdo 95"/>
          <p:cNvSpPr/>
          <p:nvPr/>
        </p:nvSpPr>
        <p:spPr>
          <a:xfrm>
            <a:off x="1344600" y="1052640"/>
            <a:ext cx="85536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09cc9"/>
                </a:solidFill>
                <a:latin typeface="Arial"/>
              </a:rPr>
              <a:t>O LIVRO: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1.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meu negocio</a:t>
            </a:r>
            <a:endParaRPr b="0" lang="en-US" sz="19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2.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ponto comercial</a:t>
            </a:r>
            <a:endParaRPr b="0" lang="en-US" sz="19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3.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mprar bem para vender bem</a:t>
            </a:r>
            <a:endParaRPr b="0" lang="en-US" sz="19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4.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definição do preço de vendas</a:t>
            </a:r>
            <a:endParaRPr b="0" lang="en-US" sz="19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5.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mo formar um time de vendas vencedor</a:t>
            </a:r>
            <a:endParaRPr b="0" lang="en-US" sz="19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6.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atendimento no varejo</a:t>
            </a:r>
            <a:endParaRPr b="0" lang="en-US" sz="19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7.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cliente fiel</a:t>
            </a:r>
            <a:endParaRPr b="0" lang="en-US" sz="19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8.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concorrência e você</a:t>
            </a:r>
            <a:endParaRPr b="0" lang="en-US" sz="19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9.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divulgação do seu negócio</a:t>
            </a:r>
            <a:endParaRPr b="0" lang="en-US" sz="19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10.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Fazendo aparecer o lucro</a:t>
            </a:r>
            <a:endParaRPr b="0" lang="en-US" sz="19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4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Nara\Pictures\vendas_1.jpg"/>
          <p:cNvPicPr/>
          <p:nvPr/>
        </p:nvPicPr>
        <p:blipFill>
          <a:blip r:embed="rId1"/>
          <a:stretch/>
        </p:blipFill>
        <p:spPr>
          <a:xfrm>
            <a:off x="701640" y="3213000"/>
            <a:ext cx="2120760" cy="268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Nara\Pictures\ataliba.jpg"/>
          <p:cNvPicPr/>
          <p:nvPr/>
        </p:nvPicPr>
        <p:blipFill>
          <a:blip r:embed="rId2"/>
          <a:stretch/>
        </p:blipFill>
        <p:spPr>
          <a:xfrm>
            <a:off x="2932200" y="2487600"/>
            <a:ext cx="2882880" cy="2200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Nara\Pictures\vendas_2.jpg"/>
          <p:cNvPicPr/>
          <p:nvPr/>
        </p:nvPicPr>
        <p:blipFill>
          <a:blip r:embed="rId3"/>
          <a:stretch/>
        </p:blipFill>
        <p:spPr>
          <a:xfrm>
            <a:off x="5888160" y="1047600"/>
            <a:ext cx="3603600" cy="253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http://www.cabecadecuia.com/imagem/materias/7fbd90f1d98d274627c11af0e7196a7a.jpg"/>
          <p:cNvPicPr/>
          <p:nvPr/>
        </p:nvPicPr>
        <p:blipFill>
          <a:blip r:embed="rId1"/>
          <a:stretch/>
        </p:blipFill>
        <p:spPr>
          <a:xfrm>
            <a:off x="4232160" y="1916280"/>
            <a:ext cx="2089440" cy="30319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2865600" y="105264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e0ff"/>
                </a:solidFill>
                <a:latin typeface="Arial"/>
              </a:rPr>
              <a:t>Conhecendo melhor o livro 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73" name="Retângulo 5"/>
          <p:cNvSpPr/>
          <p:nvPr/>
        </p:nvSpPr>
        <p:spPr>
          <a:xfrm>
            <a:off x="2576520" y="5229360"/>
            <a:ext cx="5616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Capítulo 6: O atendimento no varejo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Texto: O processo de venda – passo a passo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01:54:18Z</dcterms:created>
  <dc:creator>TW</dc:creator>
  <dc:description/>
  <dc:language>en-US</dc:language>
  <cp:lastModifiedBy>Diego Soares</cp:lastModifiedBy>
  <dcterms:modified xsi:type="dcterms:W3CDTF">2012-08-24T15:33:27Z</dcterms:modified>
  <cp:revision>243</cp:revision>
  <dc:subject/>
  <dc:title>PRÁTICAS DE EMPREENDEDORISMO</dc:title>
</cp:coreProperties>
</file>